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jeop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274-98F4-4E43-813A-77B310BA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DC4-E950-4A94-944C-D57F4361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6E5-3CC0-47F9-BD19-3AC540CB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DAA-5031-4ABC-AE40-E1391CB8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CDD5-79ED-4063-980E-A5E9D9EF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F015-FBEA-41A2-8DA9-9982A4B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700-6DCB-40D2-858E-FCA99D5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7D0A-27A5-4C49-B552-6B3AEE16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859-B2A8-4507-B8BD-51CE2BC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A95-248A-433C-AF47-A2ACA22D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15EB-416B-459E-9ABA-415F6BC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F3E-84D4-4F5F-B058-DF148BA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DD6-985F-44FB-BD88-23E2980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B8A-659B-4EA1-940F-33DD908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4C4B-DD7C-4A5D-992B-375EB439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01D-72F8-49D1-A5B8-17DCF5DB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B6C7-81AA-4580-BA7A-93715C4D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9FB-B402-4938-8363-82564A4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B2A-78A1-4286-8578-6208022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14F-7A2C-47D6-AD54-088C8C2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571-F1D0-4EC8-9D90-9245FBE7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2CA-EA43-416B-A629-F4884B5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F07-D65D-44BE-9D96-B63A15E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F7F-B957-4B9B-AF60-984B490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A8C-6EB2-4F45-B36D-64903DA3F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6C9A-1219-40E3-9DD8-BC521F622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34.xml"/><Relationship Id="rId10" Type="http://schemas.openxmlformats.org/officeDocument/2006/relationships/slide" Target="slide24.xml"/><Relationship Id="rId11" Type="http://schemas.openxmlformats.org/officeDocument/2006/relationships/slide" Target="slide44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18.xml"/><Relationship Id="rId17" Type="http://schemas.openxmlformats.org/officeDocument/2006/relationships/slide" Target="slide28.xml"/><Relationship Id="rId18" Type="http://schemas.openxmlformats.org/officeDocument/2006/relationships/slide" Target="slide38.xml"/><Relationship Id="rId19" Type="http://schemas.openxmlformats.org/officeDocument/2006/relationships/slide" Target="slide48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slide" Target="slide50.xml"/><Relationship Id="rId24" Type="http://schemas.openxmlformats.org/officeDocument/2006/relationships/slide" Target="slide22.xml"/><Relationship Id="rId25" Type="http://schemas.openxmlformats.org/officeDocument/2006/relationships/slide" Target="slide32.xml"/><Relationship Id="rId26" Type="http://schemas.openxmlformats.org/officeDocument/2006/relationships/slide" Target="slide42.xml"/><Relationship Id="rId27" Type="http://schemas.openxmlformats.org/officeDocument/2006/relationships/slide" Target="slide52.xml"/><Relationship Id="rId28" Type="http://schemas.openxmlformats.org/officeDocument/2006/relationships/slide" Target="slide3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z.about.com/d/worldnews/1/0/4/-/-/-/livni.jpg&amp;imgrefurl=http://worldnews.about.com/b/2008/08/06/prime-minister-tzipi-livni.htm&amp;usg=__AA2aBWpJrLvBDIEKXJMIoqkw3Dc=&amp;h=420&amp;w=313&amp;sz=35&amp;hl=en&amp;start=2&amp;sig2=aZX5uwOnuXnRDe4eL5VpeQ&amp;um=1&amp;tbnid=PRuOIOpE8CWoWM:&amp;tbnh=125&amp;tbnw=93&amp;ei=FI40Sd-wCp3aNIzX8ZgI&amp;prev=/images%3Fq%3Dtzipi%2Blivni%26um%3D1%26hl%3Den%26sa%3D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geocities.com/CapitolHill/Senate/5758/ds-6day_war-41.jpg&amp;imgrefurl=http://climateofchange.wordpress.com/&amp;usg=__MqCq8clJcrMVfcYiMjNtKTrg9IQ=&amp;h=331&amp;w=279&amp;sz=19&amp;hl=en&amp;start=6&amp;sig2=xEufwrmQrmRAElYBg_KlRg&amp;um=1&amp;tbnid=gih45hPCKijCJM:&amp;tbnh=119&amp;tbnw=100&amp;ei=U440ScCCJI3ENKfE-IwI&amp;prev=/images%3Fq%3Dsix%2Bday%2Bwar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knesset.gov.il/rabin/images/8.jpg&amp;imgrefurl=http://imshin.blogspot.com/2002_10_06_imshin_archive.html&amp;usg=__t4-HFxR2lIBF945ai_BTa_y3uu4=&amp;h=366&amp;w=271&amp;sz=32&amp;hl=en&amp;start=10&amp;sig2=T-Ea8nez27nWYblwSSRRqA&amp;um=1&amp;tbnid=fhtqT8sg3SYDUM:&amp;tbnh=122&amp;tbnw=90&amp;ei=f440SfWBMJrUMfXSpKAI&amp;prev=/images%3Fq%3D8%2Bitzhak%2Brabin%26um%3D1%26hl%3Den%26sa%3D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geocities.com/CapeCanaveral/Hangar/2848/airlift.jpg&amp;imgrefurl=http://www.geocities.com/CapeCanaveral/Hangar/2848/operate2.htm&amp;usg=__EweRmDR10P3tEyGtCLBO6d1PL1w=&amp;h=218&amp;w=369&amp;sz=15&amp;hl=en&amp;start=14&amp;sig2=AGGgMlXpojw42918s2Cp3w&amp;um=1&amp;tbnid=WMSRp67WK4NNNM:&amp;tbnh=72&amp;tbnw=122&amp;ei=yo40SffsNpnmMJGZmZkI&amp;prev=/images%3Fq%3Dethiopian%2Bjews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/imgres?imgurl=http://karynmarkwell.com/wp-content/uploads/2007/10/golda-meir1.jpg&amp;imgrefurl=http://karynmarkwell.com/%3Fp%3D211&amp;usg=__PxdtwnvhBfCK2eH9Cb-pBCXb8dw=&amp;h=384&amp;w=301&amp;sz=29&amp;hl=en&amp;start=6&amp;sig2=zDjHhDhdkgv9W8NGJIjGtA&amp;um=1&amp;tbnid=vEhAHC-oZhK07M:&amp;tbnh=123&amp;tbnw=96&amp;ei=-o40SeqmL6P-NLH-uZwI&amp;prev=/images%3Fq%3Dgolda%2Bmeir%26um%3D1%26hl%3Den%26sa%3D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israelcentersf.org/images/culture/2004-2005/hadag-nahash-poster.jpg&amp;imgrefurl=http://www.israelcentersf.org/culture/2004-2005/hadag-nahash.html&amp;usg=__RLZyDLmAoC09vRsp5STFKtKj7JA=&amp;h=883&amp;w=576&amp;sz=587&amp;hl=en&amp;start=1&amp;sig2=oJYC8JN1vstRmOWE9AZwhw&amp;um=1&amp;tbnid=9yGU8bGLJcH2mM:&amp;tbnh=146&amp;tbnw=95&amp;ei=PY80Se2qCJrUMavR9J4I&amp;prev=/images%3Fq%3Dhadag%2Bnachash%2Bgroup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entimg.msn.com/i/300/celeb/NataliePortman_300x298.jpg&amp;imgrefurl=http://nicegirlwallpapers.blogspot.com/2008/08/natalie-portman-best-wallpaper-and.html&amp;usg=__k8GyNPWicSbUvj5EIHTFEf3PkAQ=&amp;h=298&amp;w=300&amp;sz=18&amp;hl=en&amp;start=44&amp;sig2=7PsVANofr-4pnNchG5K8kw&amp;um=1&amp;tbnid=ZxuvkT2OU06nSM:&amp;tbnh=115&amp;tbnw=116&amp;ei=gI80SenlLqP-NMv-1ZwI&amp;prev=/images%3Fq%3Dnatalie%2Bportman%26start%3D40%26ndsp%3D20%26um%3D1%26hl%3Den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zeldawilliams.files.wordpress.com/2008/02/yael-naim.jpg&amp;imgrefurl=http://zeldawilliams.wordpress.com/2008/02/12/yael-naim-new-soul-songstress-takes-america-by-storm/&amp;usg=__y6qhYe1zfN8ByXM1csl7OsduRwM=&amp;h=800&amp;w=600&amp;sz=351&amp;hl=en&amp;start=1&amp;sig2=7kf2Es6DDp86KRlaZsOtMw&amp;um=1&amp;tbnid=YQQuAqB_0dA_qM:&amp;tbnh=143&amp;tbnw=107&amp;ei=x480Sc74JKWCecK8pfkH&amp;prev=/images%3Fq%3Dyael%2Bnaim%26um%3D1%26hl%3De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media-cdn.tripadvisor.com/media/photo-s/00/18/44/87/jerusalem.jpg&amp;imgrefurl=http://www.tripadvisor.com/LocationPhotos-g293983-Jerusalem.html&amp;usg=__5Vqvh7e062_k6fsz-YLOhVil0xI=&amp;h=412&amp;w=550&amp;sz=57&amp;hl=en&amp;start=4&amp;sig2=jgKi8lfy4ufTD1ewzawuUw&amp;um=1&amp;tbnid=By9_Y6idoRdwxM:&amp;tbnh=100&amp;tbnw=133&amp;ei=7480SdC1K4L0MPSE-ZQI&amp;prev=/images%3Fq%3Djerusalem%26um%3D1%26hl%3Den%26sa%3D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ebnitalia.it/QB/QB002/gif002/eilat.gif&amp;imgrefurl=http://gilll.deviantart.com/art/The-Dark-Mark-necklace-59366272&amp;usg=__9X55UKYvsMptZoa7PbPJFeuHUTA=&amp;h=659&amp;w=659&amp;sz=31&amp;hl=en&amp;start=8&amp;sig2=MzoJ6ET7ciFAWaMhqgnNaA&amp;um=1&amp;tbnid=0oOXhX-5WMFjfM:&amp;tbnh=138&amp;tbnw=138&amp;ei=DpA0ScznMofINNOCkY0I&amp;prev=/images%3Fq%3Deilat%26um%3D1%26hl%3Den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holtzendorff.com/vacations/israel/images/Aqaba%2520view%2520of%2520Eilat%2520and%2520Aqaba.JPG&amp;imgrefurl=http://www.holtzendorff.com/vacations/israel/jordanphotos.htm&amp;usg=__Tw1yKIglyD_Az3Kwj_NEeCmoUfk=&amp;h=1200&amp;w=1600&amp;sz=77&amp;hl=en&amp;start=17&amp;sig2=ZidU9-Di6OykVYwczdxCoQ&amp;um=1&amp;tbnid=pUYLuhPELXuRQM:&amp;tbnh=113&amp;tbnw=150&amp;ei=DpA0ScznMofINNOCkY0I&amp;prev=/images%3Fq%3Deilat%26um%3D1%26hl%3Den%26sa%3DG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www.bibleplaces.com/images/Eilat_fish_in_observatory5_tb_n052201w.jpg&amp;imgrefurl=http://www.bibleplaces.com/eilat.htm&amp;usg=__l377dxIT-3DS3u8Vk-UihCYAAo4=&amp;h=300&amp;w=400&amp;sz=35&amp;hl=en&amp;start=3&amp;sig2=kyb45F1W-i708oRKUPFmXA&amp;um=1&amp;tbnid=ILni0pV7bXM7YM:&amp;tbnh=93&amp;tbnw=124&amp;ei=DpA0ScznMofINNOCkY0I&amp;prev=/images%3Fq%3Deilat%26um%3D1%26hl%3Den%26sa%3DG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bbsnews.net/bbsn_photos/topics/Maps-and-Charts/israel_lebanon_map.jpg&amp;imgrefurl=http://bbsnews.net/bbsn_photos/Maps-and-Charts/israel_lebanon_map&amp;usg=__vqWqGv1NDoSBDSfVGEch5jyPCf0=&amp;h=368&amp;w=400&amp;sz=140&amp;hl=en&amp;start=4&amp;sig2=u4d78MeMx2H0F31z5XAY5g&amp;um=1&amp;tbnid=XOpQd1MqfCIilM:&amp;tbnh=114&amp;tbnw=124&amp;ei=apA0SY3jJprUMa3R9J4I&amp;prev=/images%3Fq%3Dmap%2Bof%2Bisrael%26um%3D1%26hl%3De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lesamisdekadima.org/photos/mr_shimon_peres.jpg&amp;imgrefurl=http://cordover.blogspot.com/2007/07/weekend-news-wrapup-71507_15.html&amp;usg=__AcbpHFYsrvjdBr81e3JFrTgZ_J8=&amp;h=2058&amp;w=1372&amp;sz=145&amp;hl=en&amp;start=1&amp;sig2=XiKhH0E4VwV6ueGbHRed3g&amp;um=1&amp;tbnid=TXuTCP7O9rTXCM:&amp;tbnh=150&amp;tbnw=100&amp;ei=8Yw0SYjuOqSIee_SxYcI&amp;prev=/images%3Fq%3Dshimon%2Bperes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/imgres?imgurl=http://www.imemc.org/attachments/jan2007/knesset.jpg&amp;imgrefurl=http://www.imemc.org/article/46504&amp;usg=__ABqAd89YCA8BETJoTzLkdEE8Yx8=&amp;h=392&amp;w=587&amp;sz=34&amp;hl=en&amp;start=7&amp;sig2=8VD9exwiZrhZ-OJNat4aRw&amp;um=1&amp;tbnid=CkggtN5Ml2li2M:&amp;tbnh=90&amp;tbnw=135&amp;ei=YI00SYa5DIL0MPSE-ZQI&amp;prev=/images%3Fq%3Disralei%2Bkneset%26um%3D1%26hl%3Den%26sa%3D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ncarrow-webdesk.com/warehouse/storage2/2007-w42/img.36000_t.jpg&amp;imgrefurl=http://www.nancarrow-webdesk.com/warehouse/storage2/2007-w42/img.36000.html&amp;usg=__LMknDVCznMMIEQsh1cDwoV0kE2o=&amp;h=266&amp;w=400&amp;sz=15&amp;hl=en&amp;start=17&amp;sig2=cuG3mePrcRfBPWjDE3QEvA&amp;um=1&amp;tbnid=afwj9WFkN94doM:&amp;tbnh=82&amp;tbnw=124&amp;ei=YI00SYa5DIL0MPSE-ZQI&amp;prev=/images%3Fq%3Disralei%2Bkneset%26um%3D1%26hl%3Den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Times New Roman"/>
              </a:rPr>
              <a:t>Israeli Jeopardy</a:t>
            </a:r>
            <a:endParaRPr b="0" lang="en-US" sz="7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304920" y="1533600"/>
          <a:ext cx="82324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33600"/>
                    <a:ext cx="8232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18720" y="1600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58128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266440" y="1600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65200" y="1600200"/>
            <a:ext cx="12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b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889280" y="3168720"/>
            <a:ext cx="46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oman is currently head of the Kadima Party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117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3519000" y="312408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zipi Liv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7680" y="1523880"/>
            <a:ext cx="1963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0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117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5200" y="3168720"/>
            <a:ext cx="48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was the 6 day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11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89576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6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5720" y="2862360"/>
            <a:ext cx="30369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889280" y="3168720"/>
            <a:ext cx="55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prime minister was assassinated in 1995 at a peace rall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17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7680" y="32004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itzhak Rab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124080"/>
            <a:ext cx="1700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81080" y="2362320"/>
            <a:ext cx="481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what country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rica was there a large immigration to Israel from 1984-1991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117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439800" y="32004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hiop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2228760"/>
            <a:ext cx="3581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21320" y="316872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President of Israe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117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20240" y="316872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Golda Meir fro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1320" y="3733920"/>
            <a:ext cx="1784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17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336636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wauk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117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81080" y="236232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Israeli model that is dating Leonardo Dicap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117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443400" y="312408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r Rafael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18800" y="3168720"/>
            <a:ext cx="55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sticker song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117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3065400" y="312408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dag Nacha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4280" y="2666880"/>
            <a:ext cx="15987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mous Star Wars actress is Israeli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752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117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913840" y="31240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alie Portm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409840"/>
            <a:ext cx="2133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2438280" y="2286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national anthem of Isra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117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592440" y="30481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tikva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81080" y="2438280"/>
            <a:ext cx="489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raeli artist had a song featured on the apple commercia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76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117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3267000" y="31240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ael Na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02320" y="2438280"/>
            <a:ext cx="239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1894680" y="316872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the capitol of Israe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17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593160" y="30481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2548080"/>
            <a:ext cx="28958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05120" y="25909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ity is located at the southern most tip of Isra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117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3970080" y="320040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l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133720"/>
            <a:ext cx="2610000" cy="260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057400"/>
            <a:ext cx="2743200" cy="2065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51814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four countries bordering Israel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117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20240" y="31687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rdan, Lebanon, Syria, Egy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071960"/>
            <a:ext cx="2057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3680" y="316872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mon Pe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2120" y="2286000"/>
            <a:ext cx="1613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117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117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1335240" y="3124080"/>
            <a:ext cx="72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hree things does shalom mea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5562720" y="426708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117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2385720" y="3276720"/>
            <a:ext cx="43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, Hello, Goodby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2209680" y="2895480"/>
            <a:ext cx="435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two definitions  of bevakasha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117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2594880" y="312408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&amp; you  a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1889280" y="3168720"/>
            <a:ext cx="46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ay “I love Israel” in Hebrew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117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1894320" y="3168720"/>
            <a:ext cx="49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 Ohev/ Ohevet Yisro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889280" y="31687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the two biggest political parties in Isra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17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889280" y="3168720"/>
            <a:ext cx="60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ay “Hebrew” in Hebrew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117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3968640" y="31240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r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327672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117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1918080" y="3168720"/>
            <a:ext cx="52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Labor and Liku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seats are there in the Israeli Parlia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198108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17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592080" y="32767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0 sea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971800"/>
            <a:ext cx="3048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chlezinger</cp:lastModifiedBy>
  <dcterms:modified xsi:type="dcterms:W3CDTF">2010-10-14T16:57:42Z</dcterms:modified>
  <cp:revision>20</cp:revision>
  <dc:subject/>
  <dc:title>Jeopardy</dc:title>
</cp:coreProperties>
</file>